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BC95-5E80-4525-9863-B89DC5910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ll_men_are_created_equal" TargetMode="External"/><Relationship Id="rId2" Type="http://schemas.openxmlformats.org/officeDocument/2006/relationships/hyperlink" Target="http://en.wikipedia.org/wiki/Life,_liberty_and_the_pursuit_of_happiness" TargetMode="External"/><Relationship Id="rId3" Type="http://schemas.openxmlformats.org/officeDocument/2006/relationships/slide" Target="../slides/slide11.xml"/><Relationship Id="rId4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2141-9034-4A5B-9945-8F7E36348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8CF0-11EC-44A7-994D-3C4D18051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C233-DCCA-472E-BD38-B2F1278E6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old these truths to be self-evident, that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ll men are created eq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at they are endowed by their Creator with certain unalienable Rights, that among these ar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fe, Liberty and the pursuit of Happine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Jeffers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E2F5-AEC6-431D-9C6B-572C01812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ot farmers &amp; townspeople had begun to drill with muskets ready to pick up their gun’s on a minute no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CECF-2B27-4C77-91F6-C73926E4D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79DF-1C07-4DCA-9724-F3FAB3618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upted from problems of revenue collection…common to all major powers after the seven years’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 conflict between France &amp; Great Brit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french support of the Americans deepened the existing financial and administrative difficulties of the French monarch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1E45-B400-4630-BB5B-7AAAF5FBB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government collected revenue through a variety of unpopular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78FD-A71C-49AB-BC76-40CB3EC4D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LY opposed to the stamp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the Stamp Act congress in October 17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ew up protest to cr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mostly by the Son’s of Liberty (Mass) refused to import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tatory Act =&gt; England had the power to legislate colon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F5AE-1501-47BE-831E-B5758AAFD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resisted y reasoned argument, economic pressure, &amp; violence/Britain would repeal and the process would start all over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A847-D0AE-4D9D-B1D5-E907370CE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a fountain/water compa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9BD4-D3F9-4103-9C32-BAFF760C0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ped tea into the Harbor for 3 hours…so much tea was poured that it piled up in waters and spilled back onto the decks of the ships were it was shoveled back 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FAE7-2A9A-469D-8C35-6CBBB0A5A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bec Act~~ extended boundaries of Quebec to Ohio River Valley…to prevent more outbrea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F489-3CB4-4AD1-830B-2D5352DA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89F3-756A-4AF3-8253-666CCF71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DE8B-5E6A-4F62-BE4E-D8593A80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D984-917A-4940-AB97-321060C2F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C7B9-70D7-4A81-A331-C7748F97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5868-49BC-4B3F-947C-EC7EC2FF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591D-3890-4857-935D-65C115EC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617B-99E5-4885-8B99-2E31F7A6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3FFF-FFB7-43B3-BD9A-5AA51B19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8211-62A1-420A-B6E2-948A3F1C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C393-4F4A-4AC7-AD70-64FF1AC9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D690-92E7-4A9C-BDA9-4FCF47B2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93A0-ED48-44F5-B45C-8C57955F8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18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merican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ental Con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5th to October 26, 177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st Continental Congress~ Formed in response to intolerable a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 Hoped to persuade Parliament to restore self-government in colonies &amp; abandon direct superv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Made up of 2 delegates from every colony except Geo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ental Con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1775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Continental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pted Deceleration of 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declarationindep"/>
          <p:cNvPicPr/>
          <p:nvPr/>
        </p:nvPicPr>
        <p:blipFill>
          <a:blip r:embed="rId1"/>
          <a:stretch/>
        </p:blipFill>
        <p:spPr>
          <a:xfrm>
            <a:off x="685800" y="2714760"/>
            <a:ext cx="3809880" cy="2647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t Heard Round the World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 April 17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 Battle of Lexington &amp; Con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 Minute 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battle1"/>
          <p:cNvPicPr/>
          <p:nvPr/>
        </p:nvPicPr>
        <p:blipFill>
          <a:blip r:embed="rId1"/>
          <a:stretch/>
        </p:blipFill>
        <p:spPr>
          <a:xfrm>
            <a:off x="685800" y="2604960"/>
            <a:ext cx="3809880" cy="2867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ist ~ American Revolution was fought for liberties that Americans believed they already possessed as British citiz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cal~ transfer of power from a distant British elite to a homegrown American power class that wanted to consolidate its hold over the wealth of the contin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Britain’s government had 2 MAJOR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er Cost =&gt; couldn’t pay it on their own; their debt rose, so they raised taxes on the colo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er Size=&gt; Vast expansion of new territory made it hard to contro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501480" y="350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Sugar &amp; Stamps Have To Do With Rev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ar Act~ George Grenville---&gt; placed taxes on sugar, coffee, wine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d more revenue from imports into colonies by a collection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sugar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Sugar &amp; Stamps Have To Do With Rev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mp Act~ tax on all printed material including newspapers, playing cards, &amp; legal docu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66=&gt; repealed Stamp Act BUT created the Declatatory 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forever_stamp1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ous Wor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axation Without Represent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es Otis (Mass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d that it was unfair to be heavily taxed if the citizens of the colonies could not be represented in gover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otis"/>
          <p:cNvPicPr/>
          <p:nvPr/>
        </p:nvPicPr>
        <p:blipFill>
          <a:blip r:embed="rId1"/>
          <a:stretch/>
        </p:blipFill>
        <p:spPr>
          <a:xfrm>
            <a:off x="3790800" y="1981080"/>
            <a:ext cx="1562400" cy="1981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 It Really a Massac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Sent troops in to protect officials wh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istered the Townsend A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roops = competiton for jobs &amp; ang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n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March 5th ~ 5 citizens died….total =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ston Massac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ston Tea Pa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1773~Parliament granted legal monopoly tea shipment to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December 16, 1773~ 150 men from all layers of the economy, blackened their faces with burnt cork, dressed as Mohawk Indians &amp; boarded three shi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teaparty"/>
          <p:cNvPicPr/>
          <p:nvPr/>
        </p:nvPicPr>
        <p:blipFill>
          <a:blip r:embed="rId1"/>
          <a:stretch/>
        </p:blipFill>
        <p:spPr>
          <a:xfrm>
            <a:off x="1981080" y="4114800"/>
            <a:ext cx="472464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ed the Intolerable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Closed the port of Bos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Reorganized the government of M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llowed quartering of sold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Removed trials of royal cus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02:20:15Z</dcterms:created>
  <dc:creator>Kristy Ventre</dc:creator>
  <dc:description/>
  <cp:keywords/>
  <dc:language>en-US</dc:language>
  <cp:lastModifiedBy>Christina Varghese</cp:lastModifiedBy>
  <cp:lastPrinted>2008-10-08T11:54:34Z</cp:lastPrinted>
  <dcterms:modified xsi:type="dcterms:W3CDTF">2010-12-06T02:27:03Z</dcterms:modified>
  <cp:revision>5</cp:revision>
  <dc:subject/>
  <dc:title>PowerPoint Presentation</dc:title>
</cp:coreProperties>
</file>